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5456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184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692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5456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184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258560" y="0"/>
            <a:ext cx="70851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5456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184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82692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5456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184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258560" y="0"/>
            <a:ext cx="70851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45456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8184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82692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45456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8184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560" y="0"/>
            <a:ext cx="70851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24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54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2262960" y="6305400"/>
            <a:ext cx="638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 </a:t>
            </a:r>
            <a:r>
              <a:rPr b="1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Formation Développeur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Page : </a:t>
            </a:r>
            <a:fld id="{948531C0-19EB-4A8F-AB96-7C6B5D72B6E9}" type="slidenum"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419040" y="6010200"/>
            <a:ext cx="952560" cy="590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005360"/>
            <a:ext cx="9144000" cy="28526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003b00"/>
              </a:gs>
              <a:gs pos="100000">
                <a:srgbClr val="008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58560" y="3798720"/>
            <a:ext cx="41036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908000" y="620640"/>
            <a:ext cx="4762800" cy="2943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995280" y="5300280"/>
            <a:ext cx="5146920" cy="65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14480" y="177840"/>
            <a:ext cx="2199960" cy="13604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58560" y="344664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332000" y="5013000"/>
            <a:ext cx="68961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s://repository.silverpeas.org/sdk/archetype-catalog.xml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4437000"/>
            <a:ext cx="7772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Formation Développeu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743200" y="5300640"/>
            <a:ext cx="6400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2ème partie : le SDK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Maven Archetyp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Un </a:t>
            </a:r>
            <a:r>
              <a:rPr b="1" lang="fr-FR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catalogue </a:t>
            </a: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qui contient deux modèles de peas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Avec EJB 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Sans EJB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540360" y="4005360"/>
            <a:ext cx="8213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mvn archetype:generate -DarchetypeCatalog=file:///C:/tmp/archetype-catalog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Assembl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72400" cy="21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Récupérer le projet sous Subversion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POM décrivant l'ensemble des services à mettre en place dans Silverpeas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Indépendant de la plate-forme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>
            <a:off x="2995920" y="3933720"/>
            <a:ext cx="38505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808080"/>
                </a:solidFill>
                <a:latin typeface="Times New Roman"/>
              </a:rPr>
              <a:t>mvn clean inst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Prod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ient les outils nécessaires à la production de Silverpeas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appbuilde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dbBuilde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silverpeasSetting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ient la configuration de Silverpeas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ient les résultats  de la construction de Silverpeas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14400" y="3716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Construire un composan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743200" y="5229360"/>
            <a:ext cx="64008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Les différentes éta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Génération du proje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4072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Télécharger le fichier catalog.xml: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Exécuter la commande :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Les paramètres sont les suivants: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className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e nom du composant en Java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groupId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</a:t>
            </a:r>
            <a:r>
              <a:rPr b="0" i="1" lang="fr-FR" sz="1800" spc="-1" strike="noStrike">
                <a:solidFill>
                  <a:srgbClr val="808080"/>
                </a:solidFill>
                <a:latin typeface="Verdana"/>
              </a:rPr>
              <a:t>com.silverpeas.components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artifactId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e nom du composant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version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a version initiale 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package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e package Java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179280" y="3052800"/>
            <a:ext cx="871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mvn archetype:generate -DarchetypeCatalog=file:///C:/tmp/archetype-catalog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60600" y="2044800"/>
            <a:ext cx="5933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https://repository.silverpeas.org/sdk/archetype-catalog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Builder le compon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1547640" y="3357720"/>
            <a:ext cx="6337440" cy="10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6000" spc="-1" strike="noStrike">
                <a:solidFill>
                  <a:srgbClr val="808080"/>
                </a:solidFill>
                <a:latin typeface="Times New Roman"/>
              </a:rPr>
              <a:t>mvn clean instal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Le déploie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Tout se fait dans le projet assembly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Récupérer le fichier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Ajouter les 3 modules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ejb/ja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config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wa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Exécuter la commande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3065400" y="5013360"/>
            <a:ext cx="34815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808080"/>
                </a:solidFill>
                <a:latin typeface="Times New Roman"/>
              </a:rPr>
              <a:t>mvn clean inst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30160" y="2421000"/>
            <a:ext cx="55756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https://repository.silverpeas.org/sdk/assembly/pom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762120" y="3397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L’application builde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43200" y="4797360"/>
            <a:ext cx="6400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Principes de fonction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La constr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8200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400" spc="-1" strike="noStrike" u="sng">
                <a:solidFill>
                  <a:srgbClr val="808080"/>
                </a:solidFill>
                <a:uFillTx/>
                <a:latin typeface="Verdana"/>
              </a:rPr>
              <a:t>L’application builder</a:t>
            </a: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16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Fonction :</a:t>
            </a: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	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2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Construire le fichier EAR et la librairie cliente.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16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Utilisation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4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Production/bin/silverpeasSettings.b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5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Production/bin/appBuilder.b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6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Production/bin/dbBuilder.b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8560" y="344664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Objectifs de la form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32000" y="5013000"/>
            <a:ext cx="6897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6920" y="1413000"/>
            <a:ext cx="7772400" cy="52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99"/>
              </a:spcBef>
              <a:buSzPct val="12343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Les besoins du développeur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Minimum de connaissance sur l’intégration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Minimum de connaissance des APIs Silverpeas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Formation s’adressant à tout utilisateur ayant vocation à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Développer un component Silverpeas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Intégrer un component dans Silverpeas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Objectifs de cette formation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Installer et configurer un poste de développemen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9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Comprendre le fonctionnement du SDK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Installation d’un poste de développement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enu du SDK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L’Application Builder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Etapes pour construire un component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62120" y="346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Install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71600" y="4916520"/>
            <a:ext cx="64008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11560" indent="-32101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11560"/>
                <a:tab algn="l" pos="4125960"/>
                <a:tab algn="l" pos="5040360"/>
                <a:tab algn="l" pos="5954760"/>
                <a:tab algn="l" pos="6869160"/>
                <a:tab algn="l" pos="7783560"/>
                <a:tab algn="l" pos="8697960"/>
                <a:tab algn="l" pos="9612360"/>
                <a:tab algn="l" pos="10526760"/>
                <a:tab algn="l" pos="11441160"/>
                <a:tab algn="l" pos="12355560"/>
                <a:tab algn="l" pos="132699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Installer et configurer un poste de développ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Le programme d’install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Les différentes parties à installer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le JDK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Apache Mav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le serveur d’application JBos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Silverpeas Development Kit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Démonstr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79280" y="3212640"/>
            <a:ext cx="460836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Place à l'installation …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762120" y="3573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Contenu du SDK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5021280"/>
            <a:ext cx="640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Structure des réperto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Configurer Maven</a:t>
            </a:r>
            <a:br>
              <a:rPr sz="3200"/>
            </a:b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settings.xm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826920" y="1484280"/>
            <a:ext cx="72360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?xml version="1.0" encoding="UTF-8"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settings&gt;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mirror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mirro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id&gt;Silverpeas Nexus&lt;/i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name&gt;Silverpeas Nexus Public Mirror&lt;/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url&gt;</a:t>
            </a:r>
            <a:r>
              <a:rPr b="1" lang="fr-FR" sz="1200" spc="-1" strike="noStrike">
                <a:solidFill>
                  <a:srgbClr val="008000"/>
                </a:solidFill>
                <a:latin typeface="Verdana"/>
              </a:rPr>
              <a:t>http://repository.silverpeas.org/nexus/content/groups/public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ur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mirrorOf&gt;*&lt;/mirrorOf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mirro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mirror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profi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id&gt;Silverpeas&lt;/i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properti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silverpeas.home&gt;</a:t>
            </a:r>
            <a:r>
              <a:rPr b="1" lang="fr-FR" sz="1200" spc="-1" strike="noStrike">
                <a:solidFill>
                  <a:srgbClr val="008000"/>
                </a:solidFill>
                <a:latin typeface="Verdana"/>
              </a:rPr>
              <a:t>C:/Silverpeas/KMEdition/Production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silverpeas.ho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properti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profi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active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activeProfile&gt;Silverpeas&lt;/activeProfi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active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setting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1T12:22:04Z</dcterms:created>
  <dc:creator/>
  <dc:description/>
  <dc:language>en-US</dc:language>
  <cp:lastModifiedBy>Emmanuel Hugonnet</cp:lastModifiedBy>
  <dcterms:modified xsi:type="dcterms:W3CDTF">2009-08-10T14:20:31Z</dcterms:modified>
  <cp:revision>51</cp:revision>
  <dc:subject/>
  <dc:title>Présentation PowerPoint</dc:title>
</cp:coreProperties>
</file>